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E4C-1443-4EF2-9146-39AA381F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8CB-1C6A-4AFD-BB1F-EA3FBDB8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B55-98A2-43C2-881A-4B429E65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D39-1928-43DA-AEA4-2F1F8234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3C85-6FF0-4ACB-B6FF-4F078238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48D7-442E-49A6-8872-EC43D316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8BE2-069F-4F7E-BEF7-A87C58DC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0AD8-E535-4628-957B-1AC6B020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4E4B-9C47-42B1-9637-70929108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68DB-0937-4259-ACA3-D05F581A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494B-83BB-45A2-813F-7128468B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930-2BB2-4402-BF4D-2B8D44C0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5F66-A789-470E-863E-CAB614D9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1526-E9E7-42CF-9638-BC9132C5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6273-56D0-4B0D-8F7A-F236EBC0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BF22-E7AD-4CFD-960F-8A9F93B5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B7F5-AF6D-4F3E-97D0-397DDDE6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917-13BC-428F-843C-9FEC5F08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A35-C18C-47AD-9BDC-628EC870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3FC-6450-433D-8321-40B347FC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2CB-C31E-4F31-9AB9-FF97CD18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1D3-0774-44F5-8580-FC6EA0AA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0AD-D4C9-4A75-A0AD-4AE37850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B7E-15D4-4ED2-AB62-690C2731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21F2-DCEC-431A-AB3A-046CD055C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1C78-0EDA-4069-9B0F-28B788147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alsts probācijas dienesta individuālais projekts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r. LV 0024 “Latvijas probācijas un ieslodzījuma vietu sistēmas personāla kapacitātes celšana”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238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3. aktivitā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400040" cy="933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6002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pmācību programmu izstrādes nepieciešamīb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Izveidot vienotu mācību procesu Mācību centrā un ieslodzījuma vietā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Aktualizēt esošo programmu satur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Optimizēt mācību proces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Pielietot vienotas, mūsdienīgas apmācības met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Samazināt mācību procesa izmak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Jaunāko virsnieku penitenciāro zināšanu trūku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fesionālās tālākizglītības programmas “Ieslodzījuma vietu apsardze”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3 līmeņa profesionālā kvalifikācija “Cietuma jaunākais inspektors”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600200"/>
          <a:ext cx="8229600" cy="480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obrīd realizējamās programm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zstrādātā mācību program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līmeņa profesionālā kvalifikācija “Cietuma vecākais uzraug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līmeņa profesionālā kvalifikācija “Cietuma jaunākais inspektor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līmeņa profesionālā kvalifikācija “Cietuma jaunākais inspektor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as apjoms – 9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u realizē – Mācību cent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as apjoms - 9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u realizē – Mācību centrs un ieslodzījuma vie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mācības proc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4191120"/>
            <a:ext cx="2590920" cy="1981080"/>
          </a:xfrm>
          <a:prstGeom prst="vertic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ksāmen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ācību centr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676520"/>
            <a:ext cx="1905120" cy="144756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orētiskā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mācīb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ietum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086600" y="1676160"/>
            <a:ext cx="1752840" cy="1447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ak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4343400"/>
            <a:ext cx="2209680" cy="1600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k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343400"/>
            <a:ext cx="2057400" cy="152388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orētiskā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mācīb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ācību centr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1676520"/>
            <a:ext cx="1752840" cy="144756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k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1752480"/>
            <a:ext cx="1905120" cy="144792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orētiskā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mācīb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ācību centr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fesionālās kvalifikācijas pilnveides programma virsniekiem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2480" y="1746000"/>
            <a:ext cx="6782760" cy="4791240"/>
            <a:chOff x="762480" y="1746000"/>
            <a:chExt cx="6782760" cy="4791240"/>
          </a:xfrm>
        </p:grpSpPr>
        <p:sp>
          <p:nvSpPr>
            <p:cNvPr id="229" name="_s40990"/>
            <p:cNvSpPr/>
            <p:nvPr/>
          </p:nvSpPr>
          <p:spPr>
            <a:xfrm flipH="1" flipV="1">
              <a:off x="2801880" y="3458520"/>
              <a:ext cx="676440" cy="390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40989"/>
            <p:cNvSpPr/>
            <p:nvPr/>
          </p:nvSpPr>
          <p:spPr>
            <a:xfrm>
              <a:off x="1263960" y="2449080"/>
              <a:ext cx="1728360" cy="12441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t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_s40988"/>
            <p:cNvSpPr/>
            <p:nvPr/>
          </p:nvSpPr>
          <p:spPr>
            <a:xfrm flipH="1">
              <a:off x="2467800" y="4372920"/>
              <a:ext cx="845640" cy="13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40987"/>
            <p:cNvSpPr/>
            <p:nvPr/>
          </p:nvSpPr>
          <p:spPr>
            <a:xfrm>
              <a:off x="762480" y="4026960"/>
              <a:ext cx="172836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dicīnisk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_s40986"/>
            <p:cNvSpPr/>
            <p:nvPr/>
          </p:nvSpPr>
          <p:spPr>
            <a:xfrm flipH="1">
              <a:off x="3403800" y="4793400"/>
              <a:ext cx="375480" cy="563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40985"/>
            <p:cNvSpPr/>
            <p:nvPr/>
          </p:nvSpPr>
          <p:spPr>
            <a:xfrm>
              <a:off x="2163960" y="5293440"/>
              <a:ext cx="172872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ilitār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40984"/>
            <p:cNvSpPr/>
            <p:nvPr/>
          </p:nvSpPr>
          <p:spPr>
            <a:xfrm>
              <a:off x="4528440" y="4793400"/>
              <a:ext cx="375480" cy="563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40983"/>
            <p:cNvSpPr/>
            <p:nvPr/>
          </p:nvSpPr>
          <p:spPr>
            <a:xfrm>
              <a:off x="4415040" y="5293440"/>
              <a:ext cx="172836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iholoģisk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40982"/>
            <p:cNvSpPr/>
            <p:nvPr/>
          </p:nvSpPr>
          <p:spPr>
            <a:xfrm>
              <a:off x="4993920" y="4371120"/>
              <a:ext cx="846360" cy="14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40981"/>
            <p:cNvSpPr/>
            <p:nvPr/>
          </p:nvSpPr>
          <p:spPr>
            <a:xfrm>
              <a:off x="5816880" y="4026960"/>
              <a:ext cx="172836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konomisk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40980"/>
            <p:cNvSpPr/>
            <p:nvPr/>
          </p:nvSpPr>
          <p:spPr>
            <a:xfrm flipV="1">
              <a:off x="4826520" y="3458160"/>
              <a:ext cx="679320" cy="388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_s40979"/>
            <p:cNvSpPr/>
            <p:nvPr/>
          </p:nvSpPr>
          <p:spPr>
            <a:xfrm>
              <a:off x="5315400" y="2447280"/>
              <a:ext cx="172872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edagoģisk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40978"/>
            <p:cNvSpPr/>
            <p:nvPr/>
          </p:nvSpPr>
          <p:spPr>
            <a:xfrm flipV="1">
              <a:off x="4152600" y="2989440"/>
              <a:ext cx="0" cy="62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40977"/>
            <p:cNvSpPr/>
            <p:nvPr/>
          </p:nvSpPr>
          <p:spPr>
            <a:xfrm>
              <a:off x="3288240" y="1746000"/>
              <a:ext cx="172872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Juridisk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40976"/>
            <p:cNvSpPr/>
            <p:nvPr/>
          </p:nvSpPr>
          <p:spPr>
            <a:xfrm>
              <a:off x="3288240" y="3613680"/>
              <a:ext cx="1728720" cy="12441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ffffff"/>
                  </a:solidFill>
                  <a:latin typeface="Arial"/>
                </a:rPr>
                <a:t>Penitenciārā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ffffff"/>
                  </a:solidFill>
                  <a:latin typeface="Arial"/>
                </a:rPr>
                <a:t>pamatzināšan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aldies par uzmanību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400040" cy="933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6002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a.Andriksone</cp:lastModifiedBy>
  <dcterms:modified xsi:type="dcterms:W3CDTF">2010-12-15T06:59:1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